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125F-1B7B-41E7-8175-F0B291996A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61F2-0958-44E4-AEBE-823363635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70A4-D8F4-476E-BC6C-B26CF3A26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8EAD2-7DC4-480C-8C10-5698BDF1A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E8FB-61A4-441D-9D0C-8BC338650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C227-D6A0-4B05-85D3-5C5731468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2B25-2786-4146-8CE7-DB83962EE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ACF62-AE40-4AEE-8C39-38D3167C6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455B-A166-4D32-9BC0-48C12F060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BC0C2-1935-4CE0-BCC2-B63807E95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D2A02-C619-44C3-AD86-DDD4AC5A3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37210-C31A-4978-AA8D-16A26C5E5B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8A03FE-D746-4B18-9F73-4F898C8366B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08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2-18T18:05:17Z</dcterms:modified>
  <cp:revision>94</cp:revision>
  <dc:subject/>
  <dc:title>No Slide Title</dc:title>
</cp:coreProperties>
</file>